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3203E-24F7-46F8-A2F4-8E423AF99CC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1F14D-BA0F-4BDA-9D20-3CBFC1512C2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62230-4C41-41C2-8F4C-D88D034F62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A0E2C-7EBC-431A-B81E-A49204793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F1580-634A-40A3-8C3A-1C4E17A2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DCEA0-6009-477D-B43A-754E18EC9D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B23B1-2FFB-4350-8A5A-5DB41E0E5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3083A-40F5-40DD-8572-3D870E4C0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48A5F-58E4-427A-9AA2-8FF73661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0E54F-2B73-4471-86BB-6AED72078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F9137-DB96-4C4F-BFC7-7631C44C1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84A7E-AB16-4759-9E40-B36DB298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49F20-BB08-4873-9CC7-7C50421BF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E6821-1FAC-49FF-AAC3-F52ED22D0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8A14E-B4F8-4CFB-BE71-EDF3EC8736B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51160"/>
              <a:ext cx="9115560" cy="1806480"/>
              <a:chOff x="28440" y="5051160"/>
              <a:chExt cx="9115560" cy="180648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51160"/>
                <a:ext cx="9115560" cy="1806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5116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2840"/>
              <a:chOff x="0" y="468900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24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200"/>
                <a:ext cx="9097920" cy="35928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1320" y="20718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运动疗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5364000" y="515772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毛玉瑢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处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处方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运动强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%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%H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E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PE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运动持续时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0% %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0~30min,  5min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运动频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qd, qo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处方设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张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长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速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牵伸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95280" y="13712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泛指用来延长病理性缩短的软组织而增加或改善活动度的操作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技术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被动牵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主动抑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柔软性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改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和柔软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图片 4" descr="37AO2123.jpg"/>
          <p:cNvPicPr/>
          <p:nvPr/>
        </p:nvPicPr>
        <p:blipFill>
          <a:blip r:embed="rId1"/>
          <a:srcRect l="13579" t="37907" r="23764" b="27723"/>
          <a:stretch/>
        </p:blipFill>
        <p:spPr>
          <a:xfrm>
            <a:off x="4859280" y="4497480"/>
            <a:ext cx="1944720" cy="1884240"/>
          </a:xfrm>
          <a:prstGeom prst="rect">
            <a:avLst/>
          </a:prstGeom>
          <a:ln w="0">
            <a:noFill/>
          </a:ln>
        </p:spPr>
      </p:pic>
      <p:sp>
        <p:nvSpPr>
          <p:cNvPr id="165" name="TextBox 5"/>
          <p:cNvSpPr/>
          <p:nvPr/>
        </p:nvSpPr>
        <p:spPr>
          <a:xfrm>
            <a:off x="7164360" y="49291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跟腱牵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图片 7" descr="1.jpg"/>
          <p:cNvPicPr/>
          <p:nvPr/>
        </p:nvPicPr>
        <p:blipFill>
          <a:blip r:embed="rId2"/>
          <a:stretch/>
        </p:blipFill>
        <p:spPr>
          <a:xfrm>
            <a:off x="4716360" y="2421000"/>
            <a:ext cx="3672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松动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生理性运动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hysiologic movemen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通过他人或外力进行的被动关节活动，但这种运动也可以通过自身主动活动完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附属性运动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ccessory movemen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只能通过被动活动来完成的关节运动，自己不能主动完成，但这种关节运动是存在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松动术适应证与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79280" y="1988640"/>
            <a:ext cx="815976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疼痛，反射性肌肉收缩或痉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逆性关节活动减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渐进性活动受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功能性制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松动操作分级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85840" y="1000080"/>
            <a:ext cx="896616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级手法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Grade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起始段进行小幅度的节律性振动，主要用于缓解疼痛或降低痉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级手法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Grade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进行大幅度的节律性振动，但活动终点未触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末端。可分Ⅱ－、Ⅱ和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可用于维持关节内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级手法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Grade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末端进行大幅度的节律性振动，用于减轻挛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级手法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Grade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Ⅳ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终末端进行小幅度的节律性振动，可打断粘连的组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6" name="Group 6"/>
          <p:cNvGrpSpPr/>
          <p:nvPr/>
        </p:nvGrpSpPr>
        <p:grpSpPr>
          <a:xfrm>
            <a:off x="1857240" y="5429160"/>
            <a:ext cx="6553440" cy="970200"/>
            <a:chOff x="1857240" y="5429160"/>
            <a:chExt cx="6553440" cy="970200"/>
          </a:xfrm>
        </p:grpSpPr>
        <p:sp>
          <p:nvSpPr>
            <p:cNvPr id="177" name="AutoShape 7"/>
            <p:cNvSpPr/>
            <p:nvPr/>
          </p:nvSpPr>
          <p:spPr>
            <a:xfrm>
              <a:off x="1857240" y="5429160"/>
              <a:ext cx="6553440" cy="9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Line 8"/>
            <p:cNvSpPr/>
            <p:nvPr/>
          </p:nvSpPr>
          <p:spPr>
            <a:xfrm>
              <a:off x="2228400" y="5695920"/>
              <a:ext cx="0" cy="267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Line 9"/>
            <p:cNvSpPr/>
            <p:nvPr/>
          </p:nvSpPr>
          <p:spPr>
            <a:xfrm>
              <a:off x="2228400" y="58298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Line 10"/>
            <p:cNvSpPr/>
            <p:nvPr/>
          </p:nvSpPr>
          <p:spPr>
            <a:xfrm>
              <a:off x="2228400" y="5829840"/>
              <a:ext cx="5717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Line 11"/>
            <p:cNvSpPr/>
            <p:nvPr/>
          </p:nvSpPr>
          <p:spPr>
            <a:xfrm>
              <a:off x="7946280" y="5695920"/>
              <a:ext cx="0" cy="2678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Line 12"/>
            <p:cNvSpPr/>
            <p:nvPr/>
          </p:nvSpPr>
          <p:spPr>
            <a:xfrm flipV="1">
              <a:off x="2228400" y="5695560"/>
              <a:ext cx="308880" cy="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Line 13"/>
            <p:cNvSpPr/>
            <p:nvPr/>
          </p:nvSpPr>
          <p:spPr>
            <a:xfrm>
              <a:off x="4082760" y="5964120"/>
              <a:ext cx="23184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Line 14"/>
            <p:cNvSpPr/>
            <p:nvPr/>
          </p:nvSpPr>
          <p:spPr>
            <a:xfrm>
              <a:off x="2537640" y="6097680"/>
              <a:ext cx="21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Line 15"/>
            <p:cNvSpPr/>
            <p:nvPr/>
          </p:nvSpPr>
          <p:spPr>
            <a:xfrm>
              <a:off x="5783040" y="5695920"/>
              <a:ext cx="21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Line 16"/>
            <p:cNvSpPr/>
            <p:nvPr/>
          </p:nvSpPr>
          <p:spPr>
            <a:xfrm>
              <a:off x="5783040" y="6097680"/>
              <a:ext cx="185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Line 17"/>
            <p:cNvSpPr/>
            <p:nvPr/>
          </p:nvSpPr>
          <p:spPr>
            <a:xfrm>
              <a:off x="7482240" y="5964120"/>
              <a:ext cx="46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WordArt 18"/>
            <p:cNvSpPr txBox="1"/>
            <p:nvPr/>
          </p:nvSpPr>
          <p:spPr>
            <a:xfrm>
              <a:off x="2073240" y="5964120"/>
              <a:ext cx="154800" cy="267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46ca6"/>
                  </a:solidFill>
                  <a:latin typeface="宋体"/>
                </a:rPr>
                <a:t>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46ca6"/>
                </a:solidFill>
                <a:latin typeface="宋体"/>
                <a:ea typeface="宋体"/>
              </a:endParaRPr>
            </a:p>
          </p:txBody>
        </p:sp>
        <p:sp>
          <p:nvSpPr>
            <p:cNvPr id="189" name="WordArt 19"/>
            <p:cNvSpPr txBox="1"/>
            <p:nvPr/>
          </p:nvSpPr>
          <p:spPr>
            <a:xfrm>
              <a:off x="7946280" y="5964120"/>
              <a:ext cx="154800" cy="221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0" name="WordArt 20"/>
            <p:cNvSpPr txBox="1"/>
            <p:nvPr/>
          </p:nvSpPr>
          <p:spPr>
            <a:xfrm>
              <a:off x="2382480" y="5429160"/>
              <a:ext cx="90000" cy="166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1" name="WordArt 21"/>
            <p:cNvSpPr txBox="1"/>
            <p:nvPr/>
          </p:nvSpPr>
          <p:spPr>
            <a:xfrm>
              <a:off x="5164920" y="6097680"/>
              <a:ext cx="17748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I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2" name="WordArt 22"/>
            <p:cNvSpPr txBox="1"/>
            <p:nvPr/>
          </p:nvSpPr>
          <p:spPr>
            <a:xfrm>
              <a:off x="6555240" y="5429160"/>
              <a:ext cx="27036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II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3" name="WordArt 23"/>
            <p:cNvSpPr txBox="1"/>
            <p:nvPr/>
          </p:nvSpPr>
          <p:spPr>
            <a:xfrm>
              <a:off x="7637400" y="6097680"/>
              <a:ext cx="17856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V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4" name="WordArt 24"/>
            <p:cNvSpPr txBox="1"/>
            <p:nvPr/>
          </p:nvSpPr>
          <p:spPr>
            <a:xfrm>
              <a:off x="3309480" y="6231960"/>
              <a:ext cx="27036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I-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5" name="WordArt 25"/>
            <p:cNvSpPr txBox="1"/>
            <p:nvPr/>
          </p:nvSpPr>
          <p:spPr>
            <a:xfrm>
              <a:off x="6555240" y="6231960"/>
              <a:ext cx="27036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I+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呼吸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0" y="1268280"/>
            <a:ext cx="914400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肺部疾患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肺炎、肺扩张不全、肺栓塞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RD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胸腹部疼痛（手术或外伤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继发性气道阻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疾患造成的肌肉无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重的骨骼异常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I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作用和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改善呼吸肌力量及协调性，增加有效咳嗽频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保持胸腔活动度，改善换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矫正无效或异常呼吸模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呼吸练习种类与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826560" y="1371240"/>
            <a:ext cx="79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横膈呼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呼吸肌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局部呼吸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舌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缩唇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胸廓松动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咳嗽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引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平衡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增强肌力和感觉功能（本体感觉训练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重建或改善平衡功能，降低肌张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神经系统疾病或损伤等所致平衡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骼肌肉疾病引起肌力下降和关节活动受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视觉和听觉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549360"/>
            <a:ext cx="8077320" cy="3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平衡练习康复护理种类和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85840" y="1143000"/>
            <a:ext cx="86104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态平衡练习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卧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坐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跪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站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单腿平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正常维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~10s.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动态平衡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软地面、平衡板、步行、游戏、打球、太极拳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8" name="组合 8"/>
          <p:cNvGrpSpPr/>
          <p:nvPr/>
        </p:nvGrpSpPr>
        <p:grpSpPr>
          <a:xfrm>
            <a:off x="1928880" y="3643200"/>
            <a:ext cx="2448000" cy="2606760"/>
            <a:chOff x="1928880" y="3643200"/>
            <a:chExt cx="2448000" cy="2606760"/>
          </a:xfrm>
        </p:grpSpPr>
        <p:pic>
          <p:nvPicPr>
            <p:cNvPr id="209" name="Picture 4" descr="37AO1614_缩小大小"/>
            <p:cNvPicPr/>
            <p:nvPr/>
          </p:nvPicPr>
          <p:blipFill>
            <a:blip r:embed="rId1"/>
            <a:srcRect l="5683" t="9449" r="8525" b="4252"/>
            <a:stretch/>
          </p:blipFill>
          <p:spPr>
            <a:xfrm>
              <a:off x="1928880" y="3643200"/>
              <a:ext cx="2448000" cy="26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圆角矩形 6"/>
            <p:cNvSpPr/>
            <p:nvPr/>
          </p:nvSpPr>
          <p:spPr>
            <a:xfrm>
              <a:off x="3094200" y="3938400"/>
              <a:ext cx="466560" cy="36324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1" name="组合 9"/>
          <p:cNvGrpSpPr/>
          <p:nvPr/>
        </p:nvGrpSpPr>
        <p:grpSpPr>
          <a:xfrm>
            <a:off x="5214960" y="3571920"/>
            <a:ext cx="2376360" cy="2736720"/>
            <a:chOff x="5214960" y="3571920"/>
            <a:chExt cx="2376360" cy="2736720"/>
          </a:xfrm>
        </p:grpSpPr>
        <p:pic>
          <p:nvPicPr>
            <p:cNvPr id="212" name="Picture 5" descr="CIMG4813"/>
            <p:cNvPicPr/>
            <p:nvPr/>
          </p:nvPicPr>
          <p:blipFill>
            <a:blip r:embed="rId2"/>
            <a:stretch/>
          </p:blipFill>
          <p:spPr>
            <a:xfrm>
              <a:off x="5214960" y="3571920"/>
              <a:ext cx="2376360" cy="27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圆角矩形 7"/>
            <p:cNvSpPr/>
            <p:nvPr/>
          </p:nvSpPr>
          <p:spPr>
            <a:xfrm>
              <a:off x="6199200" y="3703680"/>
              <a:ext cx="460080" cy="39348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4" name="TextBox 10"/>
          <p:cNvSpPr/>
          <p:nvPr/>
        </p:nvSpPr>
        <p:spPr>
          <a:xfrm>
            <a:off x="2484360" y="59500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太极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TextBox 11"/>
          <p:cNvSpPr/>
          <p:nvPr/>
        </p:nvSpPr>
        <p:spPr>
          <a:xfrm>
            <a:off x="6516720" y="6021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平衡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协调性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571320" y="1341000"/>
            <a:ext cx="83581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强化肢体、躯干、手、足等协调，获得动作准确性、反应速度、可调性和动作节律性，使局部和整体、自身与外部环境协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深部感觉障碍，中枢神经系统损伤后的运动及协调障碍，帕金森病等所致协调运动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疗法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79280" y="1125360"/>
            <a:ext cx="8785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治疗基础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关节活动度练习、肌力练习、牵伸技术、关节松动技术、呼吸练习、平衡协调性练习和步态训练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发育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obat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法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runnstro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法、神经肌肉本体感觉促进法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oo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法和运动再学习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6" name="Picture 4" descr="P~15"/>
          <p:cNvPicPr/>
          <p:nvPr/>
        </p:nvPicPr>
        <p:blipFill>
          <a:blip r:embed="rId1"/>
          <a:stretch/>
        </p:blipFill>
        <p:spPr>
          <a:xfrm>
            <a:off x="7164360" y="620640"/>
            <a:ext cx="165564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协调性练习康复护理种类和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773000"/>
            <a:ext cx="861048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肢体交替活动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肢体、躯干协调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手、足协调性活动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全身协调性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水中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本体感觉促进技术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步态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899640" y="1484280"/>
            <a:ext cx="475164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枢和外周神经系统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肌肉骨关节系统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老年患者步行能力减退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步态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基础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复合动作和实际步行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器械辅助及反馈（机器人，减重及平板练习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5" name="Picture 2" descr="F:\myr\stroke-2012\skelecton01.jpg"/>
          <p:cNvPicPr/>
          <p:nvPr/>
        </p:nvPicPr>
        <p:blipFill>
          <a:blip r:embed="rId1"/>
          <a:stretch/>
        </p:blipFill>
        <p:spPr>
          <a:xfrm>
            <a:off x="5580000" y="1341360"/>
            <a:ext cx="3044880" cy="2735280"/>
          </a:xfrm>
          <a:prstGeom prst="rect">
            <a:avLst/>
          </a:prstGeom>
          <a:ln w="0">
            <a:noFill/>
          </a:ln>
        </p:spPr>
      </p:pic>
      <p:pic>
        <p:nvPicPr>
          <p:cNvPr id="226" name="图片 3" descr="IMG_2342.JPG"/>
          <p:cNvPicPr/>
          <p:nvPr/>
        </p:nvPicPr>
        <p:blipFill>
          <a:blip r:embed="rId2"/>
          <a:srcRect l="9244" t="0" r="20167" b="17927"/>
          <a:stretch/>
        </p:blipFill>
        <p:spPr>
          <a:xfrm>
            <a:off x="5796000" y="4149720"/>
            <a:ext cx="253044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牵引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142640"/>
            <a:ext cx="58579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颈椎牵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应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椎退行性椎间盘疾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椎小关节紊乱及生理弧度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椎滑脱不超过Ⅰ度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部肌肉痉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椎及其邻近组织肿瘤、结核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内动脉严重狭窄且有斑块形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重颈椎失稳或椎体骨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脊髓压迫症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0" name="Picture 4" descr="CIMG4827"/>
          <p:cNvPicPr/>
          <p:nvPr/>
        </p:nvPicPr>
        <p:blipFill>
          <a:blip r:embed="rId1"/>
          <a:srcRect l="6791" t="0" r="19488" b="0"/>
          <a:stretch/>
        </p:blipFill>
        <p:spPr>
          <a:xfrm>
            <a:off x="5857920" y="1571760"/>
            <a:ext cx="3154320" cy="46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牵引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10920" y="1413000"/>
            <a:ext cx="8281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牵引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机械方式，电动方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位：坐位，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牵引时间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in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牵引角度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立位牵引（前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屈位牵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~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;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颈椎下段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~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牵引重量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重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％，最大重量不超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kg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牵引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腰椎牵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应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椎间盘突出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椎退行性椎间盘疾患、腰椎管狭窄症、腰椎小关节紊乱、腰椎退行性骨关节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肌痉挛或紧张、腰背痛及腰腿痛，非手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I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有马尾神经综合征表现的腰部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椎恶性肿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重的骨质疏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肺功能障碍及孕妇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发育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68360" y="1483920"/>
            <a:ext cx="8447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要用于脑损伤后运动控制障碍的治疗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obat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runnst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神经肌肉本体感觉促进法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NF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多感觉刺激疗法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o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运动再学习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4" descr="20040413044308781"/>
          <p:cNvPicPr/>
          <p:nvPr/>
        </p:nvPicPr>
        <p:blipFill>
          <a:blip r:embed="rId1"/>
          <a:stretch/>
        </p:blipFill>
        <p:spPr>
          <a:xfrm>
            <a:off x="6659640" y="2060640"/>
            <a:ext cx="2149560" cy="19810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20040413044308875"/>
          <p:cNvPicPr/>
          <p:nvPr/>
        </p:nvPicPr>
        <p:blipFill>
          <a:blip r:embed="rId2"/>
          <a:stretch/>
        </p:blipFill>
        <p:spPr>
          <a:xfrm>
            <a:off x="6300720" y="4076640"/>
            <a:ext cx="263052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35804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活动度练习种类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(range of motion, RO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55640" y="1916280"/>
            <a:ext cx="763272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外力：自身，他人，器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自身肌群主动收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动辅助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自身肌群收缩与外部辅助相结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Box 12"/>
          <p:cNvSpPr/>
          <p:nvPr/>
        </p:nvSpPr>
        <p:spPr>
          <a:xfrm>
            <a:off x="6875640" y="4581360"/>
            <a:ext cx="21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肩关节前屈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练习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1" name="Picture 5" descr="P~12"/>
          <p:cNvPicPr/>
          <p:nvPr/>
        </p:nvPicPr>
        <p:blipFill>
          <a:blip r:embed="rId1"/>
          <a:stretch/>
        </p:blipFill>
        <p:spPr>
          <a:xfrm>
            <a:off x="6227640" y="1989000"/>
            <a:ext cx="218916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活动度练习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55640" y="1413000"/>
            <a:ext cx="7848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MT&lt;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，主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练习前的被动示范，牵伸前预备运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维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改善血液循环及血管张力，减轻疼痛，加速伤口愈合，运动动作意识维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3132000" y="26028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护理操作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图片 3" descr="37AO1752.jpg"/>
          <p:cNvPicPr/>
          <p:nvPr/>
        </p:nvPicPr>
        <p:blipFill>
          <a:blip r:embed="rId1"/>
          <a:srcRect l="1697" t="5944" r="18110" b="0"/>
          <a:stretch/>
        </p:blipFill>
        <p:spPr>
          <a:xfrm>
            <a:off x="539640" y="1052640"/>
            <a:ext cx="3081600" cy="24048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611280" y="3573360"/>
            <a:ext cx="30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健侧上肢带动患侧上肢运动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图片 5" descr="37AO1770.jpg"/>
          <p:cNvPicPr/>
          <p:nvPr/>
        </p:nvPicPr>
        <p:blipFill>
          <a:blip r:embed="rId2"/>
          <a:srcRect l="27583" t="29114" r="11034" b="19342"/>
          <a:stretch/>
        </p:blipFill>
        <p:spPr>
          <a:xfrm>
            <a:off x="5003640" y="1125360"/>
            <a:ext cx="3672000" cy="2016360"/>
          </a:xfrm>
          <a:prstGeom prst="rect">
            <a:avLst/>
          </a:prstGeom>
          <a:ln w="0">
            <a:noFill/>
          </a:ln>
        </p:spPr>
      </p:pic>
      <p:sp>
        <p:nvSpPr>
          <p:cNvPr id="130" name="TextBox 6"/>
          <p:cNvSpPr/>
          <p:nvPr/>
        </p:nvSpPr>
        <p:spPr>
          <a:xfrm>
            <a:off x="4788000" y="3213000"/>
            <a:ext cx="41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治疗师辅助患者进行髋、膝、踝屈曲练习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" name="组合 13"/>
          <p:cNvGrpSpPr/>
          <p:nvPr/>
        </p:nvGrpSpPr>
        <p:grpSpPr>
          <a:xfrm>
            <a:off x="5364000" y="3645000"/>
            <a:ext cx="2278080" cy="2827080"/>
            <a:chOff x="5364000" y="3645000"/>
            <a:chExt cx="2278080" cy="2827080"/>
          </a:xfrm>
        </p:grpSpPr>
        <p:pic>
          <p:nvPicPr>
            <p:cNvPr id="132" name="Picture 3" descr="CIMG4819"/>
            <p:cNvPicPr/>
            <p:nvPr/>
          </p:nvPicPr>
          <p:blipFill>
            <a:blip r:embed="rId3"/>
            <a:srcRect l="1186" t="6865" r="0" b="19270"/>
            <a:stretch/>
          </p:blipFill>
          <p:spPr>
            <a:xfrm>
              <a:off x="5364000" y="3645000"/>
              <a:ext cx="2278080" cy="28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圆角矩形 8"/>
            <p:cNvSpPr/>
            <p:nvPr/>
          </p:nvSpPr>
          <p:spPr>
            <a:xfrm>
              <a:off x="5940000" y="4005360"/>
              <a:ext cx="431640" cy="647640"/>
            </a:xfrm>
            <a:custGeom>
              <a:avLst/>
              <a:gdLst>
                <a:gd name="textAreaLeft" fmla="*/ 20880 w 431640"/>
                <a:gd name="textAreaRight" fmla="*/ 410760 w 431640"/>
                <a:gd name="textAreaTop" fmla="*/ 20880 h 647640"/>
                <a:gd name="textAreaBottom" fmla="*/ 626760 h 647640"/>
              </a:gdLst>
              <a:ahLst/>
              <a:rect l="textAreaLeft" t="textAreaTop" r="textAreaRight" b="textAreaBottom"/>
              <a:pathLst>
                <a:path w="21600" h="32400">
                  <a:moveTo>
                    <a:pt x="3600" y="0"/>
                  </a:moveTo>
                  <a:arcTo wR="3600" hR="3600" stAng="16200000" swAng="-5400000"/>
                  <a:lnTo>
                    <a:pt x="0" y="28800"/>
                  </a:lnTo>
                  <a:arcTo wR="3600" hR="3600" stAng="10800000" swAng="-5400000"/>
                  <a:lnTo>
                    <a:pt x="18000" y="324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4" name="TextBox 9"/>
          <p:cNvSpPr/>
          <p:nvPr/>
        </p:nvSpPr>
        <p:spPr>
          <a:xfrm>
            <a:off x="7503840" y="3716280"/>
            <a:ext cx="66708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器械辅助下肩关节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ROM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练习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5" name="图片 10" descr="37AO1744.jpg"/>
          <p:cNvPicPr/>
          <p:nvPr/>
        </p:nvPicPr>
        <p:blipFill>
          <a:blip r:embed="rId4"/>
          <a:srcRect l="24189" t="13605" r="30271" b="12969"/>
          <a:stretch/>
        </p:blipFill>
        <p:spPr>
          <a:xfrm>
            <a:off x="1042920" y="4076640"/>
            <a:ext cx="2376720" cy="22449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12"/>
          <p:cNvSpPr/>
          <p:nvPr/>
        </p:nvSpPr>
        <p:spPr>
          <a:xfrm>
            <a:off x="3571920" y="4221000"/>
            <a:ext cx="42372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主动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ROM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练习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07732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肌力增强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618920" y="1557000"/>
            <a:ext cx="679284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肌力增强练习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440" indent="-2426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抗阻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徒手抗阻练习，器械抗阻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肌力增强练习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440" indent="-2426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肌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肌耐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爆发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肌力增强练习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避免用力憋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疲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质疏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运动后的体力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训练过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动作代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运动引起的肌肉酸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禁忌证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炎症期，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6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肌力增强练习运动处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99640" y="1628280"/>
            <a:ext cx="801540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等张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向心运动与离心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开链运动与闭链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等速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等长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阻练习操作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6" descr="200608~天津 046"/>
          <p:cNvPicPr/>
          <p:nvPr/>
        </p:nvPicPr>
        <p:blipFill>
          <a:blip r:embed="rId1"/>
          <a:srcRect l="4425" t="0" r="0" b="9444"/>
          <a:stretch/>
        </p:blipFill>
        <p:spPr>
          <a:xfrm>
            <a:off x="395280" y="1341360"/>
            <a:ext cx="2736720" cy="23749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4"/>
          <p:cNvSpPr/>
          <p:nvPr/>
        </p:nvSpPr>
        <p:spPr>
          <a:xfrm>
            <a:off x="1979640" y="3716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徒手抗阻练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4" descr="CIMG4835"/>
          <p:cNvPicPr/>
          <p:nvPr/>
        </p:nvPicPr>
        <p:blipFill>
          <a:blip r:embed="rId2"/>
          <a:stretch/>
        </p:blipFill>
        <p:spPr>
          <a:xfrm>
            <a:off x="5435640" y="1341360"/>
            <a:ext cx="2881440" cy="2374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51" name="Picture 7" descr="CIMG4831"/>
          <p:cNvPicPr/>
          <p:nvPr/>
        </p:nvPicPr>
        <p:blipFill>
          <a:blip r:embed="rId3"/>
          <a:srcRect l="5759" t="7681" r="6200" b="5613"/>
          <a:stretch/>
        </p:blipFill>
        <p:spPr>
          <a:xfrm>
            <a:off x="5435640" y="3860640"/>
            <a:ext cx="2808360" cy="2581560"/>
          </a:xfrm>
          <a:prstGeom prst="rect">
            <a:avLst/>
          </a:prstGeom>
          <a:ln w="0">
            <a:noFill/>
          </a:ln>
        </p:spPr>
      </p:pic>
      <p:sp>
        <p:nvSpPr>
          <p:cNvPr id="152" name="TextBox 7"/>
          <p:cNvSpPr/>
          <p:nvPr/>
        </p:nvSpPr>
        <p:spPr>
          <a:xfrm>
            <a:off x="8392320" y="1700280"/>
            <a:ext cx="45468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器械（哑铃、沙包）抗阻练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3" name="Picture 6" descr="37AO1625_缩小大小"/>
          <p:cNvPicPr/>
          <p:nvPr/>
        </p:nvPicPr>
        <p:blipFill>
          <a:blip r:embed="rId4"/>
          <a:srcRect l="0" t="0" r="14882" b="38363"/>
          <a:stretch/>
        </p:blipFill>
        <p:spPr>
          <a:xfrm>
            <a:off x="3132000" y="1341360"/>
            <a:ext cx="2200320" cy="2374920"/>
          </a:xfrm>
          <a:prstGeom prst="rect">
            <a:avLst/>
          </a:prstGeom>
          <a:ln w="0">
            <a:noFill/>
          </a:ln>
        </p:spPr>
      </p:pic>
      <p:grpSp>
        <p:nvGrpSpPr>
          <p:cNvPr id="154" name="组合 11"/>
          <p:cNvGrpSpPr/>
          <p:nvPr/>
        </p:nvGrpSpPr>
        <p:grpSpPr>
          <a:xfrm>
            <a:off x="755640" y="4149720"/>
            <a:ext cx="2305080" cy="2351160"/>
            <a:chOff x="755640" y="4149720"/>
            <a:chExt cx="2305080" cy="2351160"/>
          </a:xfrm>
        </p:grpSpPr>
        <p:pic>
          <p:nvPicPr>
            <p:cNvPr id="155" name="Picture 5" descr="37AO1633_缩小大小"/>
            <p:cNvPicPr/>
            <p:nvPr/>
          </p:nvPicPr>
          <p:blipFill>
            <a:blip r:embed="rId5"/>
            <a:srcRect l="4973" t="15591" r="0" b="10866"/>
            <a:stretch/>
          </p:blipFill>
          <p:spPr>
            <a:xfrm>
              <a:off x="755640" y="4149720"/>
              <a:ext cx="2305080" cy="23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圆角矩形 10"/>
            <p:cNvSpPr/>
            <p:nvPr/>
          </p:nvSpPr>
          <p:spPr>
            <a:xfrm>
              <a:off x="2346480" y="4159080"/>
              <a:ext cx="488880" cy="45072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7" name="TextBox 12"/>
          <p:cNvSpPr/>
          <p:nvPr/>
        </p:nvSpPr>
        <p:spPr>
          <a:xfrm>
            <a:off x="2968200" y="4221000"/>
            <a:ext cx="667080" cy="26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伸膝抗阻练习（弹力带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6:33:40Z</dcterms:modified>
  <cp:revision>130</cp:revision>
  <dc:subject/>
  <dc:title>内科护理学</dc:title>
</cp:coreProperties>
</file>